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A3A-B80E-488A-8272-4F4D102C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142-AF6F-4703-B7D0-53624743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0A3-1485-474A-A211-91FE3015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24A-574C-41B5-964D-6A91AB56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0F4-0A2F-4ACB-9E67-0276ABEC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91D-0609-4A1E-90A2-C3C66D1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CFF-29C3-4B6B-9E20-06B56BAD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370-42F8-4B28-B306-AE3CDF0C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F11-5B32-428E-B642-7E3BA773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94D-8FD1-41A8-B129-2515200C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FCB-8B98-4C0A-BC5E-150AB94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46F-C1E6-441A-8391-D4817CA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C7C-7F74-4FBE-AD32-6F62D606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643040"/>
            <a:ext cx="9144000" cy="1481040"/>
            <a:chOff x="0" y="1643040"/>
            <a:chExt cx="9144000" cy="1481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66303" t="30968" r="2652" b="0"/>
            <a:stretch/>
          </p:blipFill>
          <p:spPr>
            <a:xfrm>
              <a:off x="0" y="1654200"/>
              <a:ext cx="3089160" cy="1469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2971800" y="1643040"/>
              <a:ext cx="6172200" cy="1481040"/>
              <a:chOff x="2971800" y="1643040"/>
              <a:chExt cx="6172200" cy="1481040"/>
            </a:xfrm>
          </p:grpSpPr>
          <p:sp>
            <p:nvSpPr>
              <p:cNvPr id="44" name=""/>
              <p:cNvSpPr/>
              <p:nvPr/>
            </p:nvSpPr>
            <p:spPr>
              <a:xfrm>
                <a:off x="3048120" y="1643040"/>
                <a:ext cx="6095880" cy="1481040"/>
              </a:xfrm>
              <a:prstGeom prst="rect">
                <a:avLst/>
              </a:prstGeom>
              <a:solidFill>
                <a:srgbClr val="005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71800" y="1728720"/>
                <a:ext cx="617220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TMO 436a/536a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Spring 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undamentals of the Atmospheric Scien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WF 1:00 pm – 1:50 pm.  PAS 2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6:37:13Z</dcterms:created>
  <dc:creator>ritchie</dc:creator>
  <dc:description/>
  <dc:language>en-US</dc:language>
  <cp:lastModifiedBy>ritchie</cp:lastModifiedBy>
  <dcterms:modified xsi:type="dcterms:W3CDTF">2008-01-15T16:37:13Z</dcterms:modified>
  <cp:revision>1</cp:revision>
  <dc:subject/>
  <dc:title>Slide 1</dc:title>
</cp:coreProperties>
</file>