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778-90E9-4912-B50E-F64A54FF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805-E0B3-4D6B-BA78-34D538CB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392-1EA6-4C5A-906F-ACB681DF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BE5-82DE-46C6-931E-DFA664F7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9A3-A49D-4372-9112-88E55B86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24B-7FA7-4ED4-87BB-BEE40C80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32F-D5FC-4FC1-95B8-A65C143A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60C-3B1D-406B-8E7D-8285868E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445-2B42-405B-9AB7-0DEEDED8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5C0-5CAC-4D9B-BB42-24E0BC5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C6B-8B77-4B6B-90FF-04036C66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CAD-21AC-43CD-876B-7A5F474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D876-4935-4D58-9152-676ADF121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643040"/>
            <a:ext cx="9144000" cy="1481040"/>
            <a:chOff x="0" y="1643040"/>
            <a:chExt cx="9144000" cy="1481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66303" t="30968" r="2652" b="0"/>
            <a:stretch/>
          </p:blipFill>
          <p:spPr>
            <a:xfrm>
              <a:off x="0" y="1654200"/>
              <a:ext cx="3089160" cy="146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2971800" y="1643040"/>
              <a:ext cx="6172200" cy="1481040"/>
              <a:chOff x="2971800" y="1643040"/>
              <a:chExt cx="6172200" cy="1481040"/>
            </a:xfrm>
          </p:grpSpPr>
          <p:sp>
            <p:nvSpPr>
              <p:cNvPr id="44" name=""/>
              <p:cNvSpPr/>
              <p:nvPr/>
            </p:nvSpPr>
            <p:spPr>
              <a:xfrm>
                <a:off x="3048120" y="1643040"/>
                <a:ext cx="6095880" cy="1481040"/>
              </a:xfrm>
              <a:prstGeom prst="rect">
                <a:avLst/>
              </a:prstGeom>
              <a:solidFill>
                <a:srgbClr val="005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71800" y="1728720"/>
                <a:ext cx="617220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TMO 436a/536a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   Spring 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undamentals of the Atmospheric Scien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WF 1:00 pm – 1:50 pm.  PAS 2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6:37:13Z</dcterms:created>
  <dc:creator>ritchie</dc:creator>
  <dc:description/>
  <dc:language>en-US</dc:language>
  <cp:lastModifiedBy>ritchie</cp:lastModifiedBy>
  <dcterms:modified xsi:type="dcterms:W3CDTF">2008-01-15T16:37:13Z</dcterms:modified>
  <cp:revision>1</cp:revision>
  <dc:subject/>
  <dc:title>Slide 1</dc:title>
</cp:coreProperties>
</file>