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8DB7-3A5D-4410-BC32-AB098C9B7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CB7B-E7E8-4C1F-8BDB-4641DBF5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E707-DC3F-4438-9E08-FBA065B83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11FD-591C-412B-AD31-94B0B5C8D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CA51-3F35-4ED3-8F6D-2E47B26E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2AD4-ADBA-454D-B2E6-D5A187BC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9AD7-1985-40E4-A02A-392CC042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57CC-B754-4B1A-AA83-1CA9C27E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6670-785E-4709-95D6-1FF4DB71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A565-A752-4648-A75C-7AF485C6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9187-0077-42DC-80D3-ADD6B74E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EB91-D4C6-476C-AC57-304B49BE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D521-857B-4CA8-AC9C-4F7C77DBE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1643040"/>
            <a:ext cx="9144000" cy="1481040"/>
            <a:chOff x="0" y="1643040"/>
            <a:chExt cx="9144000" cy="14810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rcRect l="66303" t="30968" r="2652" b="0"/>
            <a:stretch/>
          </p:blipFill>
          <p:spPr>
            <a:xfrm>
              <a:off x="0" y="1654200"/>
              <a:ext cx="3089160" cy="1469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" name=""/>
            <p:cNvGrpSpPr/>
            <p:nvPr/>
          </p:nvGrpSpPr>
          <p:grpSpPr>
            <a:xfrm>
              <a:off x="2971800" y="1643040"/>
              <a:ext cx="6172200" cy="1481040"/>
              <a:chOff x="2971800" y="1643040"/>
              <a:chExt cx="6172200" cy="1481040"/>
            </a:xfrm>
          </p:grpSpPr>
          <p:sp>
            <p:nvSpPr>
              <p:cNvPr id="44" name=""/>
              <p:cNvSpPr/>
              <p:nvPr/>
            </p:nvSpPr>
            <p:spPr>
              <a:xfrm>
                <a:off x="3048120" y="1643040"/>
                <a:ext cx="6095880" cy="1481040"/>
              </a:xfrm>
              <a:prstGeom prst="rect">
                <a:avLst/>
              </a:prstGeom>
              <a:solidFill>
                <a:srgbClr val="005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71800" y="1728720"/>
                <a:ext cx="6172200" cy="12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ATMO 436a/536a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                Spring 200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Fundamentals of the Atmospheric Scienc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WF 1:00 pm – 1:50 pm.  PAS 22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6:37:13Z</dcterms:created>
  <dc:creator>ritchie</dc:creator>
  <dc:description/>
  <dc:language>en-US</dc:language>
  <cp:lastModifiedBy>ritchie</cp:lastModifiedBy>
  <dcterms:modified xsi:type="dcterms:W3CDTF">2008-01-15T16:37:13Z</dcterms:modified>
  <cp:revision>1</cp:revision>
  <dc:subject/>
  <dc:title>Slide 1</dc:title>
</cp:coreProperties>
</file>